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4550-38DB-47CD-90EC-E8845BFC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B4F0-5151-4976-A78B-4B4C2E67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4995-EB08-4E0A-86E2-5D434136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B594-E73F-49BC-8054-ECF11CC9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D7A4-C5B3-468C-B527-D6DCFB1D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9B05-CBDE-4452-A838-0D8302F7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A429-38C5-4A2F-A5B8-1BA4BF1E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F401-5D63-45AA-B51C-C2D5C0C7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4970-3CD3-49B2-B63C-9029825A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014F-D2A9-4C7D-A007-56CDE073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B9B8-F9BB-4552-8727-4D7D6819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2815-F9D8-41C3-AE72-8C33FF23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5A88-96F6-490C-99DA-DFC86E4A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D71A-487F-40E1-AEE0-43E06E32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A9BF-6B6C-471B-B55E-F820C28E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E914-0453-4CE1-8343-9782A423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6F0E-9858-4BBC-AED3-CB6FF980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BB1D-8A0C-433F-92D4-4B04388E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D6416-DE49-49C1-9326-F0C4D703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FFD01-FE81-48AC-8593-2F246A7D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5DE9E-97B3-4B6F-AE9A-2270071B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6D74-7A14-42B8-B91D-567ED65D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3125-36E7-4558-9B31-EC850684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5B12-4CB2-42E4-B38D-A67C1031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D097-8B52-4584-A299-8F390EC2FE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96D1-CE41-45B4-87F2-4974B132B7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Go Tell The Good News – Part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rter 12, Lesson 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s 22:22 – 23:3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ges 190-19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omf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ord Encourages Paul – 23: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ord will see that Paul extends his work in the gospel to ROM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d’s providence is seen in preserving Paul from the angry Jewish mo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s 2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ve Main Poin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The Council – 23:1-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The Comfort – 23: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The Conspiracy – 23:12-2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The Communication – 23:25-3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The Confinement – 23:31-3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791320" y="34290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2238480"/>
            <a:ext cx="6858000" cy="4619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onspira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Reprisal against Paul – 23:12-1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Relative of Paul – 23:16-2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Removal of Paul – 23:23-2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reparing to transport Paul to Caesa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s 2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ve Main Poin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The Council – 23:1-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The Comfort – 23: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The Conspiracy – 23:12-2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The Communication – 23:25-3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The Confinement – 23:31-3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629400" y="396252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udius Lysias, the Roman commander, writes a letter to Governor Felix in Caesar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etter explains why Paul is being sent to him – 23:25-3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006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s 2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ve Main Poin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The Council – 23:1-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The Comfort – 23: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The Conspiracy – 23:12-2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The Communication – 23:25-3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The Confinement – 23:31-3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19920" y="449568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0" y="2238480"/>
            <a:ext cx="6858000" cy="4619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onfin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905200"/>
            <a:ext cx="6858000" cy="3952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Caesarea in prison – 23:31-3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Herod’s pa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awaits his Jewish accus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824040"/>
            <a:ext cx="9144000" cy="6033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2133720" y="304920"/>
            <a:ext cx="48956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oman Aqueduct in Caesare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5343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276720" y="304920"/>
            <a:ext cx="2971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oman Theate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33720" y="3048120"/>
            <a:ext cx="106668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6477120"/>
            <a:ext cx="7696440" cy="38088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573120"/>
            <a:ext cx="9144000" cy="5711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001000" y="3962520"/>
            <a:ext cx="1143000" cy="22096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1000" y="4267080"/>
            <a:ext cx="1143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Wor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d Kingdom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Chris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ail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2209680"/>
            <a:ext cx="1371600" cy="160020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828800" y="228600"/>
            <a:ext cx="54482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Has Returned To Jerusale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The Last Les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ul Stood Before An Angry Mob –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cts 22:1-2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 spoke concerning his pre-conver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is background – 22:1-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is bias against Christians – 22:4-5,2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 spoke concerning his conversion – 22:6-1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is vision of the Son of God – 22:6-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is visit by the servant of God (Ananias) - 12-1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 spoke concerning his post-conversion -22:17-19,2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ow God saved him from the Jews – 22:17-1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ow God sent him to the Gentiles – 22:2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2000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Today’s Les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 Jerusa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aul stands before the Roman Military – 22:22-2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narchy of the crowd – 22-2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ction of the commander – 24-2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ttitude upon learning Paul is a Roman Citizen - 2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aul stands before the Jewish Sanhedrin – 22:3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220320" cy="537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5880" y="1447920"/>
            <a:ext cx="1752840" cy="3682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Jewish 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867280" y="1828800"/>
            <a:ext cx="990720" cy="838080"/>
          </a:xfrm>
          <a:prstGeom prst="line">
            <a:avLst/>
          </a:prstGeom>
          <a:ln w="572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6019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oman Fortress of Anto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76520" y="3124080"/>
            <a:ext cx="2438280" cy="2895840"/>
          </a:xfrm>
          <a:prstGeom prst="line">
            <a:avLst/>
          </a:prstGeom>
          <a:ln w="572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s 2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ve Main Poin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The Council – 23:1-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The Comfort – 23: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The Conspiracy – 23:12-2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The Communication – 23:25-3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The Confinement – 23:31-3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ounci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ssault – 23:1-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nger and affirmation of Paul –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ology – 4-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rgument between the Sadducees and Pharisees – 6-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s 2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ve Main Poin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The Council – 23:1-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The Comfort – 23: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The Conspiracy – 23:12-2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The Communication – 23:25-3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The Confinement – 23:31-3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800600" y="29718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21:10:30Z</dcterms:created>
  <dc:creator>Terry W. Benton</dc:creator>
  <dc:description/>
  <dc:language>en-US</dc:language>
  <cp:lastModifiedBy>Frank D Vines</cp:lastModifiedBy>
  <dcterms:modified xsi:type="dcterms:W3CDTF">2007-02-11T00:50:57Z</dcterms:modified>
  <cp:revision>5</cp:revision>
  <dc:subject/>
  <dc:title>Go Tell The Good News – Part 2</dc:title>
</cp:coreProperties>
</file>